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675-CB70-4C3D-9A70-AB9BF1D9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629-1358-4477-AA48-246EDF9E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833-0C31-4E5D-8600-A40A3B4A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A8E-25E5-4715-A8EA-9F01A10A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6C91-D431-44E1-A54E-FC94BFB6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EB5B-2978-44F8-AB78-655E2562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86A2-37DC-47CD-AF6E-9ACF3FC6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2DAA-892C-4480-AB19-07A2175C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76A-1216-4EA3-9C2B-D44C1E21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322E-0EBC-41FF-BEF5-7CF0E2A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E27-1BE3-4235-AF49-1EC2E05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3F5-7C64-493B-A6FF-F59B1CE4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44A7-4322-42EA-9725-64567DA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3F95-598C-4E29-B88B-1D7BBBE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6525-776A-4179-83F6-6BA42C87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2F0-BDA1-40EB-A271-F15551B1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BE1C-88EC-4246-9B74-C20C1000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386-7EE7-4CB1-A8B8-B69893B2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6B0-4661-454C-9426-7AAC6518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CB5-7B19-4264-89C1-4A90FF96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2F5-FE4A-47D3-8D22-3910315E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DAA-7EA9-4A8A-9C5E-456DEC2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674-4DEA-4383-8243-9F457945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30E-08C5-44F8-929C-067D573A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87D3-59D3-49C9-94C0-7748D3557D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5026-763C-43DD-A0A6-12DA02DAA1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:  Students will create and interpret frequency 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s the number of times each item occurs in a set of dat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, g, pg, f, f, g, g, g, g, f, c, f, c, c, g, f, f, c, g, g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last frequency table you ma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more players are guards than cent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ass Surv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5 minutes to survey the people in our class asking them the two ques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the data you collected to create a frequency t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 BC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ccps</cp:lastModifiedBy>
  <dcterms:modified xsi:type="dcterms:W3CDTF">2010-03-02T19:16:10Z</dcterms:modified>
  <cp:revision>9</cp:revision>
  <dc:subject/>
  <dc:title>Opener</dc:title>
</cp:coreProperties>
</file>